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173-EFAD-4D3A-AF3C-5DA08C6B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10B-E826-4810-834B-35AE3D0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986-3D8C-474C-B914-FAB04626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B47-F1CF-409C-9422-14CFA008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950-2845-4A86-A14F-92D9CCD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BE-EA19-45B8-B917-92E9DA7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C13-7BBA-4E51-922D-5A96992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BE0-7453-4FC0-A054-E3F8F32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D50-7F81-4FF8-A82E-CF11DCE8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B57-E075-4B11-8CE3-D646D6E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2D8-C040-4962-A232-2506F6D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C7D-B8C8-49C2-8A2A-D943F40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BA09-4A96-4A68-AF16-DCDA61A66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psu.edu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construction-institute.org/scriptcontent/Index.cf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owers.JPG"/>
          <p:cNvPicPr/>
          <p:nvPr/>
        </p:nvPicPr>
        <p:blipFill>
          <a:blip r:embed="rId1">
            <a:lum bright="-10000"/>
          </a:blip>
          <a:srcRect l="25001" t="10813" r="7502" b="0"/>
          <a:stretch/>
        </p:blipFill>
        <p:spPr>
          <a:xfrm>
            <a:off x="76320" y="4038480"/>
            <a:ext cx="1904760" cy="2743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Picture 11" descr="katz_night_LG.jpg"/>
          <p:cNvPicPr/>
          <p:nvPr/>
        </p:nvPicPr>
        <p:blipFill>
          <a:blip r:embed="rId2">
            <a:lum contrast="10000"/>
          </a:blip>
          <a:srcRect l="69457" t="0" r="0" b="0"/>
          <a:stretch/>
        </p:blipFill>
        <p:spPr>
          <a:xfrm>
            <a:off x="8153280" y="76320"/>
            <a:ext cx="914400" cy="3886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Picture 7" descr="katz_night_LG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2057400" y="4038480"/>
            <a:ext cx="7010280" cy="2743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Rectangle 3"/>
          <p:cNvSpPr/>
          <p:nvPr/>
        </p:nvSpPr>
        <p:spPr>
          <a:xfrm>
            <a:off x="76320" y="76320"/>
            <a:ext cx="8001000" cy="3886200"/>
          </a:xfrm>
          <a:prstGeom prst="rect">
            <a:avLst/>
          </a:prstGeom>
          <a:gradFill rotWithShape="0">
            <a:gsLst>
              <a:gs pos="0">
                <a:srgbClr val="591816"/>
              </a:gs>
              <a:gs pos="100000">
                <a:srgbClr val="9c302e"/>
              </a:gs>
            </a:gsLst>
            <a:lin ang="16200000"/>
          </a:gradFill>
          <a:ln cap="rnd"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0" y="0"/>
            <a:ext cx="5867280" cy="173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katz_night_LG.jpg"/>
          <p:cNvPicPr/>
          <p:nvPr/>
        </p:nvPicPr>
        <p:blipFill>
          <a:blip r:embed="rId4">
            <a:lum bright="-10000"/>
          </a:blip>
          <a:srcRect l="56153" t="0" r="0" b="6903"/>
          <a:stretch/>
        </p:blipFill>
        <p:spPr>
          <a:xfrm>
            <a:off x="8153280" y="76320"/>
            <a:ext cx="914400" cy="3886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Picture 2" descr="PACE: The Partnership for Achieving Construction Excellence"/>
          <p:cNvPicPr/>
          <p:nvPr/>
        </p:nvPicPr>
        <p:blipFill>
          <a:blip r:embed="rId5"/>
          <a:stretch/>
        </p:blipFill>
        <p:spPr>
          <a:xfrm>
            <a:off x="1828800" y="342900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Penn State Office of Physical Plan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II 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9400" y="16765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pankowfoundation.org/images/pankow_site_logo.gif"/>
          <p:cNvPicPr/>
          <p:nvPr/>
        </p:nvPicPr>
        <p:blipFill>
          <a:blip r:embed="rId10"/>
          <a:srcRect l="0" t="0" r="0" b="8522"/>
          <a:stretch/>
        </p:blipFill>
        <p:spPr>
          <a:xfrm>
            <a:off x="6324480" y="304920"/>
            <a:ext cx="1484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to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33520" y="129528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erature review under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 questions developed, and initial interviews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ly developing interviewe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ki Setup - BIM 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ingSMART Al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E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duate Course Setup for Fall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isory Board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ly 7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sks this Sum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33520" y="1295280"/>
            <a:ext cx="7924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 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nning (Chitw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ign (Neve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ruction (Cra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(Colle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velop Decision Matrix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ilitate BIM Execution Pl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 previous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pare for fall semester BIM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33520" y="12952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3352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ectangle 2"/>
          <p:cNvSpPr/>
          <p:nvPr/>
        </p:nvSpPr>
        <p:spPr>
          <a:xfrm>
            <a:off x="533520" y="76320"/>
            <a:ext cx="8534160" cy="1143000"/>
          </a:xfrm>
          <a:prstGeom prst="rect">
            <a:avLst/>
          </a:prstGeom>
          <a:gradFill rotWithShape="0">
            <a:gsLst>
              <a:gs pos="0">
                <a:srgbClr val="591816"/>
              </a:gs>
              <a:gs pos="100000">
                <a:srgbClr val="9c302e"/>
              </a:gs>
            </a:gsLst>
            <a:lin ang="16200000"/>
          </a:gra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3520" y="1295280"/>
            <a:ext cx="8534160" cy="5486400"/>
          </a:xfrm>
          <a:prstGeom prst="rect">
            <a:avLst/>
          </a:prstGeom>
          <a:gradFill rotWithShape="0">
            <a:gsLst>
              <a:gs pos="0">
                <a:srgbClr val="21172e"/>
              </a:gs>
              <a:gs pos="100000">
                <a:srgbClr val="402f54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609480" y="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ons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09480" y="13716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nstruction Industry Institute (C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n State – Office of Physical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dingSMART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buildingSMART alliance"/>
          <p:cNvPicPr/>
          <p:nvPr/>
        </p:nvPicPr>
        <p:blipFill>
          <a:blip r:embed="rId2"/>
          <a:stretch/>
        </p:blipFill>
        <p:spPr>
          <a:xfrm>
            <a:off x="1066680" y="6427800"/>
            <a:ext cx="2971800" cy="35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engr.psu.edu/ae/cic/images/title.jpg"/>
          <p:cNvPicPr/>
          <p:nvPr/>
        </p:nvPicPr>
        <p:blipFill>
          <a:blip r:embed="rId3"/>
          <a:stretch/>
        </p:blipFill>
        <p:spPr>
          <a:xfrm>
            <a:off x="5796000" y="6400800"/>
            <a:ext cx="296712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PACE: The Partnership for Achieving Construction Excellence"/>
          <p:cNvPicPr/>
          <p:nvPr/>
        </p:nvPicPr>
        <p:blipFill>
          <a:blip r:embed="rId4"/>
          <a:stretch/>
        </p:blipFill>
        <p:spPr>
          <a:xfrm>
            <a:off x="533520" y="5715000"/>
            <a:ext cx="4524120" cy="38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enn State Office of Physical Plant"/>
          <p:cNvPicPr/>
          <p:nvPr/>
        </p:nvPicPr>
        <p:blipFill>
          <a:blip r:embed="rId5"/>
          <a:stretch/>
        </p:blipFill>
        <p:spPr>
          <a:xfrm>
            <a:off x="6324480" y="551484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II logo"/>
          <p:cNvPicPr/>
          <p:nvPr/>
        </p:nvPicPr>
        <p:blipFill>
          <a:blip r:embed="rId6"/>
          <a:stretch/>
        </p:blipFill>
        <p:spPr>
          <a:xfrm>
            <a:off x="6858000" y="44197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www.pankowfoundation.org/images/pankow_site_logo.gif"/>
          <p:cNvPicPr/>
          <p:nvPr/>
        </p:nvPicPr>
        <p:blipFill>
          <a:blip r:embed="rId7"/>
          <a:srcRect l="0" t="0" r="0" b="8522"/>
          <a:stretch/>
        </p:blipFill>
        <p:spPr>
          <a:xfrm>
            <a:off x="1828800" y="4343400"/>
            <a:ext cx="1484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33520" y="1295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solidFill>
            <a:srgbClr val="4f81bd">
              <a:alpha val="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ildingSMART Project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19920" y="2057400"/>
            <a:ext cx="2361960" cy="3124080"/>
          </a:xfrm>
          <a:prstGeom prst="rect">
            <a:avLst/>
          </a:prstGeom>
          <a:solidFill>
            <a:srgbClr val="4f81bd">
              <a:alpha val="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dvisory 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90720" y="2057400"/>
            <a:ext cx="4572000" cy="3200400"/>
          </a:xfrm>
          <a:prstGeom prst="rect">
            <a:avLst/>
          </a:prstGeom>
          <a:solidFill>
            <a:srgbClr val="4f81bd">
              <a:alpha val="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IC Research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enn St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990720" y="2057400"/>
            <a:ext cx="457200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Messner,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rector of Computer Integra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struction (CIC) Research 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posed Gran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429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raig Dubl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286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evena Zik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lleen Kasprza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6019920" y="2057400"/>
            <a:ext cx="23619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na “Deke” Smith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uildingSMART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Alli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ndustry Champ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6477120" y="289548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ctor Sanvi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477120" y="327672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anco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6477120" y="365760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e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a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477120" y="403848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a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oushes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4"/>
          <p:cNvSpPr/>
          <p:nvPr/>
        </p:nvSpPr>
        <p:spPr>
          <a:xfrm>
            <a:off x="5638680" y="3429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133720" y="3962520"/>
            <a:ext cx="24382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Undergraduate Stud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477120" y="4419720"/>
            <a:ext cx="144756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mbers T.B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143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hitwan Salu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33520" y="1295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owners and project teams are struggling with   defining the appropriate level of modeling to perform on a project based on the current state of practice and future information need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33520" y="1295280"/>
            <a:ext cx="81532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G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33520" y="1295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 a guide that will focus on the decisions required to implement Building Information Modeling throughout the stages of a building pro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33520" y="1295280"/>
            <a:ext cx="815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ludes decision matrix and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sy to use application for guiding a team through the decisions required for BIM imple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33520" y="1295280"/>
            <a:ext cx="79246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ailed Literature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gaps in current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methods, opportunities, and challenges encountered with the adoption of B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aluate BIM implementation on curr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ffice of Physical Pl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rshey Medica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acobs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E class – BIM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lestone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N:\CIC\Pankow\Final_Schedule.jpg"/>
          <p:cNvPicPr/>
          <p:nvPr/>
        </p:nvPicPr>
        <p:blipFill>
          <a:blip r:embed="rId2"/>
          <a:srcRect l="2752" t="2381" r="2752" b="2872"/>
          <a:stretch/>
        </p:blipFill>
        <p:spPr>
          <a:xfrm>
            <a:off x="609480" y="137160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d137</cp:lastModifiedBy>
  <dcterms:modified xsi:type="dcterms:W3CDTF">2008-06-17T19:09:07Z</dcterms:modified>
  <cp:revision>14</cp:revision>
  <dc:subject/>
  <dc:title>Slide 1</dc:title>
</cp:coreProperties>
</file>